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3C6C8-C796-44F3-B1A3-98957B99A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736B1-5A4A-4227-8FA6-BB373673B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CC217-9361-4B48-A155-0F4CBED78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49914-C462-4193-8EE3-290EA07B3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92A2A-91B7-4216-8CEB-86FB0E254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FB352-F609-4ADF-B26C-11F8E6D90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C798D-7FEB-4A66-B18B-4C51B7200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8BE49-CE9B-471D-B01D-EDAF86D46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0CDD6-8E96-4BDA-9ED3-D553713CB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5BD94-A3C0-4286-9E4F-625B34F47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A72AA-A293-4547-A01E-BA0504B11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3934B-0103-44E4-ADA1-7DE4139D1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BE3F-2F19-4134-947A-47C8AFF8B5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comp_i"/>
          <p:cNvPicPr/>
          <p:nvPr/>
        </p:nvPicPr>
        <p:blipFill>
          <a:blip r:embed="rId1"/>
          <a:stretch/>
        </p:blipFill>
        <p:spPr>
          <a:xfrm>
            <a:off x="5715000" y="1600200"/>
            <a:ext cx="306720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Guest</cp:lastModifiedBy>
  <dcterms:modified xsi:type="dcterms:W3CDTF">2012-06-15T12:34:01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